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1B6-E4D5-4FA2-9C1C-E559E4DE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E12-85BF-45B5-8ACD-5B3C7ED3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212-8E6A-4DA4-89DF-A100D819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D7B-FC77-42A5-80AE-E09EA377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C95C-2DF7-4655-9FA0-08E6170E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9FD7-0407-44D1-A618-EEFAAFC7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F80A-0820-42F3-9C16-346F523C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11B9-07E6-44E3-AE4F-6F2E77E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F01-27E2-4E37-B3AE-FCC4E9EC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5F17-3899-4299-A16B-41877AC4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B72-FF51-474C-B00B-05D624D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378-32D7-4558-85AC-77884551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834-AA43-427A-A93A-0D78CBB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2966-DE84-46CB-8855-241BE873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6670-8170-4D4D-B861-5913E645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99D6-5379-4667-8358-64949D52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50BA-BCDB-4D4D-84AA-7B4BA9F6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34B-E7FF-4B72-8C62-4EABDEC2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4E1-9D4D-49EB-9A3F-AF7C068B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163-7F69-4977-9CF1-6ADB680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3C6-6A27-4363-AA73-D1A429C4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104-A5BB-47F1-BBF6-6CBA254F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5BE-3A07-469E-98B5-0085B9D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17A-641A-4193-904F-F624456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B183-02F7-4608-86D9-BDBF634FD7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C430-E396-4F32-A169-A09F6ED91D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CER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A CONDIZIONE ABITATIVA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 PROVINCIA DI RIMINI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9 Ottobre 2004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101080" y="5734080"/>
            <a:ext cx="7779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26200" y="825840"/>
            <a:ext cx="778536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vata densità delle concession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00000" y="2349360"/>
          <a:ext cx="705816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705816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229600" y="5877000"/>
            <a:ext cx="690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99280" y="548280"/>
            <a:ext cx="7780320" cy="99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PREZZI DEGLI IMMO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zzi medi 2003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ologna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199 euro/mq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imin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.972 euro/mq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dia regional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.519 euro/mq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ncrementi valori abitazioni in Regione 1992-2003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(Ance regional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Rimini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+ 130 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rlì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+ 116 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arma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+ 104  %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odena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+   98  %     ………..…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29600" y="5877000"/>
            <a:ext cx="690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098960" y="292320"/>
            <a:ext cx="4620600" cy="4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 variazioni dei prezz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58920" y="620640"/>
          <a:ext cx="4321080" cy="6459120"/>
        </p:xfrm>
        <a:graphic>
          <a:graphicData uri="http://schemas.openxmlformats.org/drawingml/2006/table">
            <a:tbl>
              <a:tblPr/>
              <a:tblGrid>
                <a:gridCol w="1071360"/>
                <a:gridCol w="939960"/>
                <a:gridCol w="436680"/>
                <a:gridCol w="196560"/>
                <a:gridCol w="1000080"/>
                <a:gridCol w="676440"/>
              </a:tblGrid>
              <a:tr h="465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rcato residenzi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ariazione % dei prezzi medi di vendita residenziali nei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apoluoghi di provincia rispetto allo stesso mese dell'ann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0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cedente e graduatoria dei capoluoghi per variazion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s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apoluogo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raduatoria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iù caro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imini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ar. 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ebbraio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,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rzo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ggio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iugno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gosto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ttembre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vembre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cembre '0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ennaio '0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,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ebbraio '0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rzo '0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rile '0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iugno '0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uglio'0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ttembre '0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onte: Scenari Immobiliari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88480" y="888480"/>
            <a:ext cx="767124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i affit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A Rimin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: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 euro/m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Biloc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600-650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riloc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700-7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osto letto student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  200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tate 2004 vicino al m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Bilocale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2.100-2.6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61400" y="626760"/>
            <a:ext cx="7769880" cy="1069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RATTI DI LOCAZIONE E COMPRAVENDIT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116000" y="2341440"/>
          <a:ext cx="7097760" cy="37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341440"/>
                    <a:ext cx="70977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40000" y="225360"/>
            <a:ext cx="5475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nsità contrattua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26920" y="1125360"/>
          <a:ext cx="7921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7921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84360" y="1197000"/>
          <a:ext cx="798192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98192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BITAZIONE: QUESTIONE SOCIA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76932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FRATTI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(periodo 1998-200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chieste di esecuzi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12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eguit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0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° CONTRIBUTI FONDO SOCIALE AFFI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no 2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2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no 200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44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ndi provinciali ERP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OMANDE ultimi bandi emessi dai Comuni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ggiornate a marzo 200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1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l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628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rovvisori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…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lloggi assegnati nel 200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5445000"/>
            <a:ext cx="1225800" cy="576360"/>
          </a:xfrm>
          <a:custGeom>
            <a:avLst/>
            <a:gdLst>
              <a:gd name="textAreaLeft" fmla="*/ 191520 w 1225800"/>
              <a:gd name="textAreaRight" fmla="*/ 1072800 w 12258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RISPOSTA PUBBL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one medio mensile 2004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117,22 eu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one medio mensile regionale           120,74   eu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27280" y="2060640"/>
          <a:ext cx="3889080" cy="3312720"/>
        </p:xfrm>
        <a:graphic>
          <a:graphicData uri="http://schemas.openxmlformats.org/drawingml/2006/table">
            <a:tbl>
              <a:tblPr/>
              <a:tblGrid>
                <a:gridCol w="1153080"/>
                <a:gridCol w="1359000"/>
                <a:gridCol w="1377000"/>
              </a:tblGrid>
              <a:tr h="5230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LOGGI E NUCLEI FAMILIARI ER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nn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logg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uclei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9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94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9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86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88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82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66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8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6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86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79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onte: Regione Emilia Romag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92468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NAMICHE URBANE PROVINCIAL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1991             2001              2003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opolazion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258.718     272.676      283.23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amiglie              92.014     107.228       114.45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(Diff. 2001/2003 = +7.225 famiglie, di cui 5.502 unipersonal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* Dati anagrafe fine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993600">
            <a:off x="5651280" y="3933720"/>
            <a:ext cx="2592360" cy="576360"/>
          </a:xfrm>
          <a:custGeom>
            <a:avLst/>
            <a:gdLst>
              <a:gd name="textAreaLeft" fmla="*/ 380880 w 2592360"/>
              <a:gd name="textAreaRight" fmla="*/ 2028600 w 259236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352" hR="21600" stAng="10800000" swAng="5400000"/>
                <a:lnTo>
                  <a:pt x="13728" y="0"/>
                </a:lnTo>
                <a:arcTo wR="6352" hR="21600" stAng="-5400000" swAng="2236824"/>
                <a:lnTo>
                  <a:pt x="21173" y="13817"/>
                </a:lnTo>
                <a:lnTo>
                  <a:pt x="16391" y="21600"/>
                </a:lnTo>
                <a:lnTo>
                  <a:pt x="10755" y="13817"/>
                </a:lnTo>
                <a:lnTo>
                  <a:pt x="12276" y="13817"/>
                </a:lnTo>
                <a:arcTo wR="6352" hR="21600" stAng="-3163176" swAng="-1526174"/>
                <a:lnTo>
                  <a:pt x="10040" y="4014"/>
                </a:lnTo>
                <a:arcTo wR="6352" hR="21600" stAng="-6110651" swAng="-4689349"/>
                <a:close/>
              </a:path>
              <a:path fill="darkenLess" w="21600" h="21600">
                <a:moveTo>
                  <a:pt x="0" y="21600"/>
                </a:moveTo>
                <a:arcTo wR="6352" hR="21600" stAng="10800000" swAng="5400000"/>
                <a:lnTo>
                  <a:pt x="6352" y="0"/>
                </a:lnTo>
                <a:arcTo wR="6352" hR="21600" stAng="-5400000" swAng="710651"/>
                <a:lnTo>
                  <a:pt x="10040" y="4014"/>
                </a:lnTo>
                <a:arcTo wR="6352" hR="21600" stAng="-6110651" swAng="-4689349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58320" y="5734080"/>
            <a:ext cx="776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fronto region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17440" y="2362320"/>
          <a:ext cx="7132680" cy="38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2362320"/>
                    <a:ext cx="71326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uova offerta ERP  2004-2009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ruzione nuovi allog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8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upero allog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3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ilizia agevolat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1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atto di Quartiere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8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TAL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2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 cui in corso di realizzazione       6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ntre gli altri sono da finanzi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’Agenzia per la locazione</a:t>
            </a:r>
            <a:br>
              <a:rPr sz="36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stituita nel 200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it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reperire alloggi privati da destin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’affitto a canone calmie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tività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l 30 settembre 200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ggi assegnati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ggi da assegn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3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mande di lavoratori in attes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ggi assegnati per mobilità (CQ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1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53360" y="5805360"/>
            <a:ext cx="657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482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093160" y="5589720"/>
            <a:ext cx="7779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925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L’immigr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01080" y="5734080"/>
            <a:ext cx="75240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116000" y="2362320"/>
          <a:ext cx="7080120" cy="37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362320"/>
                    <a:ext cx="708012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4040" y="4932000"/>
            <a:ext cx="72025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clei familiari con capofamiglia straniero: 4,5 mila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° gen. 200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172360" y="5805360"/>
            <a:ext cx="71460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2120" y="692280"/>
          <a:ext cx="7924680" cy="413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92280"/>
                    <a:ext cx="792468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925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Universitari fuori se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341360"/>
          <a:ext cx="8075880" cy="482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807588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542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.in sinte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72360" y="5805360"/>
            <a:ext cx="75240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395280" y="2276640"/>
          <a:ext cx="8353440" cy="368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76640"/>
                    <a:ext cx="835344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924680" cy="92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’OFFERTA ABITATI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29600" y="5877000"/>
            <a:ext cx="69048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900000" y="1359000"/>
          <a:ext cx="7559640" cy="48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359000"/>
                    <a:ext cx="75596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72640" y="52200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nuove abitazioni residenzia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69992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91-’01: nuove famiglie     15.21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nuove abitazioni  15.756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(Diff.+ 542)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125360"/>
          <a:ext cx="7561440" cy="396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7561440" cy="39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229600" y="5877000"/>
            <a:ext cx="690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3:19:47Z</dcterms:created>
  <dc:creator>Primo Silvestri</dc:creator>
  <dc:description/>
  <dc:language>en-US</dc:language>
  <cp:lastModifiedBy>user</cp:lastModifiedBy>
  <dcterms:modified xsi:type="dcterms:W3CDTF">2004-10-22T07:39:15Z</dcterms:modified>
  <cp:revision>18</cp:revision>
  <dc:subject/>
  <dc:title>ACER  LA CONDIZIONE ABITATIVA IN PROVINCIA DI RIMINI    29 Ottobre 2004</dc:title>
</cp:coreProperties>
</file>