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C38-568E-4C9E-895A-07E22FC9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D53-14CE-4D39-B339-BA55E32E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EDD-5CCC-4E74-8472-3265D279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9CF-48E8-4DCC-9EAB-3DA847F8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CBC1-13AF-4950-8963-91CFFB87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B39A-04A1-4014-82E9-88931116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0799-F51A-4687-A56A-E3376DDD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96AA-475B-439D-A0CD-AB23FD7E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8393-F0CC-43E2-87DD-1533B870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EE9F-D3ED-45F5-ABB7-0EEADAC1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DBA0-E33D-4053-8367-5D1E13EC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176-E434-4FFB-91F4-E2AE516A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EBFA-DE72-40F4-B1FF-7ED2C26C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9D5C-3E88-416B-81A0-BE01F24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2AC0-0A8B-4FE0-8817-E003432F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44C1-4A08-4B55-BFB2-0DDAE5F6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BF74-62FA-48CF-A56D-860141A4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E24-C5C0-4456-A664-51BBFFB4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45B-CA09-4CBF-B39E-686ABE4C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BF7-2CD3-42FE-A806-56B8D20D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456-74A8-474D-A0D7-2F018E39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ED5-EFD3-49B1-93AC-0D2D5DB8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F89-DABC-483B-ABF4-9CCBE11D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0B1-3203-4F21-9605-7DB0FFBE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00E6-A7B4-4880-B6AC-E79BCAEF66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"/>
          <p:cNvSpPr/>
          <p:nvPr/>
        </p:nvSpPr>
        <p:spPr>
          <a:xfrm>
            <a:off x="157320" y="6283440"/>
            <a:ext cx="88660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71280" y="243000"/>
            <a:ext cx="8969400" cy="8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" name="" descr=""/>
          <p:cNvPicPr/>
          <p:nvPr/>
        </p:nvPicPr>
        <p:blipFill>
          <a:blip r:embed="rId2"/>
          <a:stretch/>
        </p:blipFill>
        <p:spPr>
          <a:xfrm>
            <a:off x="3638520" y="6188040"/>
            <a:ext cx="835200" cy="56988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3"/>
          <a:stretch/>
        </p:blipFill>
        <p:spPr>
          <a:xfrm>
            <a:off x="4567320" y="6176880"/>
            <a:ext cx="819000" cy="568440"/>
          </a:xfrm>
          <a:prstGeom prst="rect">
            <a:avLst/>
          </a:prstGeom>
          <a:ln w="0">
            <a:noFill/>
          </a:ln>
        </p:spPr>
      </p:pic>
      <p:pic>
        <p:nvPicPr>
          <p:cNvPr id="25" name="" descr=""/>
          <p:cNvPicPr/>
          <p:nvPr/>
        </p:nvPicPr>
        <p:blipFill>
          <a:blip r:embed="rId4"/>
          <a:stretch/>
        </p:blipFill>
        <p:spPr>
          <a:xfrm>
            <a:off x="270000" y="6326280"/>
            <a:ext cx="1503360" cy="347400"/>
          </a:xfrm>
          <a:prstGeom prst="rect">
            <a:avLst/>
          </a:prstGeom>
          <a:ln w="0">
            <a:noFill/>
          </a:ln>
        </p:spPr>
      </p:pic>
      <p:pic>
        <p:nvPicPr>
          <p:cNvPr id="26" name="" descr=""/>
          <p:cNvPicPr/>
          <p:nvPr/>
        </p:nvPicPr>
        <p:blipFill>
          <a:blip r:embed="rId5"/>
          <a:stretch/>
        </p:blipFill>
        <p:spPr>
          <a:xfrm>
            <a:off x="5486400" y="6291360"/>
            <a:ext cx="2038320" cy="376200"/>
          </a:xfrm>
          <a:prstGeom prst="rect">
            <a:avLst/>
          </a:prstGeom>
          <a:ln w="0">
            <a:noFill/>
          </a:ln>
        </p:spPr>
      </p:pic>
      <p:pic>
        <p:nvPicPr>
          <p:cNvPr id="27" name="" descr=""/>
          <p:cNvPicPr/>
          <p:nvPr/>
        </p:nvPicPr>
        <p:blipFill>
          <a:blip r:embed="rId6"/>
          <a:stretch/>
        </p:blipFill>
        <p:spPr>
          <a:xfrm>
            <a:off x="7535880" y="6313320"/>
            <a:ext cx="1449360" cy="360360"/>
          </a:xfrm>
          <a:prstGeom prst="rect">
            <a:avLst/>
          </a:prstGeom>
          <a:ln w="0">
            <a:noFill/>
          </a:ln>
        </p:spPr>
      </p:pic>
      <p:pic>
        <p:nvPicPr>
          <p:cNvPr id="28" name="" descr=""/>
          <p:cNvPicPr/>
          <p:nvPr/>
        </p:nvPicPr>
        <p:blipFill>
          <a:blip r:embed="rId7"/>
          <a:stretch/>
        </p:blipFill>
        <p:spPr>
          <a:xfrm>
            <a:off x="1889280" y="6291360"/>
            <a:ext cx="1565280" cy="380880"/>
          </a:xfrm>
          <a:prstGeom prst="rect">
            <a:avLst/>
          </a:prstGeom>
          <a:ln w="0">
            <a:noFill/>
          </a:ln>
        </p:spPr>
      </p:pic>
      <p:pic>
        <p:nvPicPr>
          <p:cNvPr id="29" name="" descr=""/>
          <p:cNvPicPr/>
          <p:nvPr/>
        </p:nvPicPr>
        <p:blipFill>
          <a:blip r:embed="rId8"/>
          <a:stretch/>
        </p:blipFill>
        <p:spPr>
          <a:xfrm>
            <a:off x="187200" y="276120"/>
            <a:ext cx="2762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95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ADA4-C332-49BF-8C2B-C664A31D8F0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7320" y="6283440"/>
            <a:ext cx="88660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38520" y="6188040"/>
            <a:ext cx="835200" cy="569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67320" y="6176880"/>
            <a:ext cx="819000" cy="56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70000" y="6326280"/>
            <a:ext cx="1503360" cy="34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486400" y="6291360"/>
            <a:ext cx="2038320" cy="376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7535880" y="6313320"/>
            <a:ext cx="1449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1889280" y="6291360"/>
            <a:ext cx="1565280" cy="380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280" y="243000"/>
            <a:ext cx="8969400" cy="8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187200" y="276120"/>
            <a:ext cx="276228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318944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10680" y="1606320"/>
            <a:ext cx="8404200" cy="1066680"/>
          </a:xfrm>
          <a:prstGeom prst="rect">
            <a:avLst/>
          </a:prstGeom>
          <a:noFill/>
          <a:ln w="0">
            <a:noFill/>
          </a:ln>
        </p:spPr>
        <p:txBody>
          <a:bodyPr lIns="342000" rIns="378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minario Europeo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Buone pratiche per l’accesso degli immigrati alla cas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3581280"/>
            <a:ext cx="656136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0" rIns="378000" tIns="46800" bIns="46800" anchor="ctr">
            <a:normAutofit fontScale="99000"/>
          </a:bodyPr>
          <a:p>
            <a:pPr marL="339480" indent="-339480"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Verdana"/>
              </a:rPr>
              <a:t>L’esperienza dell’Agenzia per la Locazi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f5f5f"/>
                </a:solidFill>
                <a:latin typeface="Garamond"/>
              </a:rPr>
              <a:t>Relato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00"/>
                </a:solidFill>
                <a:latin typeface="Garamond"/>
              </a:rPr>
              <a:t>Franco Carbon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Garamond"/>
              </a:rPr>
              <a:t>Presidente AC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Garamond"/>
              </a:rPr>
              <a:t>Azienda Casa Emilia - Romag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Garamond"/>
              </a:rPr>
              <a:t>Provincia di Rimi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2840" y="1960560"/>
            <a:ext cx="8550000" cy="41101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>
                  <a:alpha val="68235"/>
                </a:srgbClr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2000" rIns="37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71600" y="1330200"/>
            <a:ext cx="8200800" cy="446040"/>
          </a:xfrm>
          <a:prstGeom prst="rect">
            <a:avLst/>
          </a:prstGeom>
          <a:solidFill>
            <a:srgbClr val="e0ebf6">
              <a:alpha val="4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Statistiche mobilità Contratto di Quart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19280" y="2443320"/>
          <a:ext cx="3979800" cy="576000"/>
        </p:xfrm>
        <a:graphic>
          <a:graphicData uri="http://schemas.openxmlformats.org/drawingml/2006/table">
            <a:tbl>
              <a:tblPr/>
              <a:tblGrid>
                <a:gridCol w="1992240"/>
                <a:gridCol w="1987560"/>
              </a:tblGrid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Totale Nucl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Media Can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559,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71400" y="3220920"/>
          <a:ext cx="7899480" cy="245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400" y="3220920"/>
                    <a:ext cx="789948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2840" y="1960560"/>
            <a:ext cx="8550000" cy="41101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>
                  <a:alpha val="68235"/>
                </a:srgbClr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37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1600" y="1329840"/>
            <a:ext cx="8200800" cy="446040"/>
          </a:xfrm>
          <a:prstGeom prst="rect">
            <a:avLst/>
          </a:prstGeom>
          <a:solidFill>
            <a:srgbClr val="e0ebf6">
              <a:alpha val="40000"/>
            </a:srgbClr>
          </a:solidFill>
          <a:ln w="9360">
            <a:solidFill>
              <a:srgbClr val="808080"/>
            </a:solidFill>
            <a:miter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Statistiche Convenzione Lavoratori</a:t>
            </a:r>
            <a:endParaRPr b="1" lang="en-US" sz="2400" spc="-1" strike="noStrike">
              <a:solidFill>
                <a:srgbClr val="77a4af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17400" y="2108160"/>
          <a:ext cx="3778560" cy="192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400" y="2108160"/>
                    <a:ext cx="377856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71680" y="4010040"/>
          <a:ext cx="3821040" cy="1967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680" y="4010040"/>
                    <a:ext cx="38210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732200" y="4010040"/>
          <a:ext cx="3870360" cy="19749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2200" y="4010040"/>
                    <a:ext cx="387036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808520" y="2430360"/>
          <a:ext cx="3646440" cy="1185480"/>
        </p:xfrm>
        <a:graphic>
          <a:graphicData uri="http://schemas.openxmlformats.org/drawingml/2006/table">
            <a:tbl>
              <a:tblPr/>
              <a:tblGrid>
                <a:gridCol w="2016360"/>
                <a:gridCol w="1630080"/>
              </a:tblGrid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77ab"/>
                          </a:solidFill>
                          <a:latin typeface="Arial"/>
                          <a:ea typeface="Arial"/>
                        </a:rPr>
                        <a:t>Tipologia Contrat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77ab"/>
                          </a:solidFill>
                          <a:latin typeface="Arial"/>
                          <a:ea typeface="Arial"/>
                        </a:rPr>
                        <a:t>Nu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+ 2 (concertat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+ 4 (liber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2840" y="1960560"/>
            <a:ext cx="8550000" cy="41101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>
                  <a:alpha val="68235"/>
                </a:srgbClr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2000" rIns="37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2149560"/>
          <a:ext cx="263844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49560"/>
                    <a:ext cx="2638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659040" y="3657600"/>
          <a:ext cx="4881600" cy="2101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9040" y="3657600"/>
                    <a:ext cx="488160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4097160" y="2357280"/>
          <a:ext cx="4038480" cy="1001520"/>
        </p:xfrm>
        <a:graphic>
          <a:graphicData uri="http://schemas.openxmlformats.org/drawingml/2006/table">
            <a:tbl>
              <a:tblPr/>
              <a:tblGrid>
                <a:gridCol w="2233440"/>
                <a:gridCol w="18050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77ab"/>
                          </a:solidFill>
                          <a:latin typeface="Arial"/>
                          <a:ea typeface="Arial"/>
                        </a:rPr>
                        <a:t>Tipologia Contrat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77ab"/>
                          </a:solidFill>
                          <a:latin typeface="Arial"/>
                          <a:ea typeface="Arial"/>
                        </a:rPr>
                        <a:t>Nu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+ 2 (concertat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</a:tbl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1329840"/>
            <a:ext cx="8200800" cy="446040"/>
          </a:xfrm>
          <a:prstGeom prst="rect">
            <a:avLst/>
          </a:prstGeom>
          <a:solidFill>
            <a:srgbClr val="e0ebf6">
              <a:alpha val="40000"/>
            </a:srgbClr>
          </a:solidFill>
          <a:ln w="9360">
            <a:solidFill>
              <a:srgbClr val="808080"/>
            </a:solidFill>
            <a:miter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Statistiche Convenzione Università</a:t>
            </a:r>
            <a:endParaRPr b="1" lang="en-US" sz="24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12840" y="1960560"/>
            <a:ext cx="8550000" cy="41101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>
                  <a:alpha val="68235"/>
                </a:srgbClr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2000" rIns="37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646200" y="2266920"/>
          <a:ext cx="3209760" cy="1325520"/>
        </p:xfrm>
        <a:graphic>
          <a:graphicData uri="http://schemas.openxmlformats.org/drawingml/2006/table">
            <a:tbl>
              <a:tblPr/>
              <a:tblGrid>
                <a:gridCol w="1828800"/>
                <a:gridCol w="1380960"/>
              </a:tblGrid>
              <a:tr h="34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77ab"/>
                          </a:solidFill>
                          <a:latin typeface="Arial"/>
                          <a:ea typeface="Arial"/>
                        </a:rPr>
                        <a:t>Superficie Allog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977ab"/>
                          </a:solidFill>
                          <a:latin typeface="Arial"/>
                          <a:ea typeface="Arial"/>
                        </a:rPr>
                        <a:t>CanoneMe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Inferiore a 30 m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67,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Da 30 mq a 50 m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520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Da 50 mq a 75 m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565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Superiore a 75 m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726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947960" y="3833640"/>
          <a:ext cx="5316480" cy="21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7960" y="3833640"/>
                    <a:ext cx="531648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099040" y="2284560"/>
          <a:ext cx="3414600" cy="1303200"/>
        </p:xfrm>
        <a:graphic>
          <a:graphicData uri="http://schemas.openxmlformats.org/drawingml/2006/table">
            <a:tbl>
              <a:tblPr/>
              <a:tblGrid>
                <a:gridCol w="1888200"/>
                <a:gridCol w="1526400"/>
              </a:tblGrid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77ab"/>
                          </a:solidFill>
                          <a:latin typeface="Arial"/>
                          <a:ea typeface="Arial"/>
                        </a:rPr>
                        <a:t>Tipologia Contrat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977ab"/>
                          </a:solidFill>
                          <a:latin typeface="Arial"/>
                          <a:ea typeface="Arial"/>
                        </a:rPr>
                        <a:t>Nu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+ 2 (concertat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+ 4 (liber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fe0f1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71600" y="1330200"/>
            <a:ext cx="8200800" cy="446040"/>
          </a:xfrm>
          <a:prstGeom prst="rect">
            <a:avLst/>
          </a:prstGeom>
          <a:solidFill>
            <a:srgbClr val="e0ebf6">
              <a:alpha val="4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Statistiche compl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12840" y="1960560"/>
            <a:ext cx="8550000" cy="41101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>
                  <a:alpha val="68235"/>
                </a:srgbClr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2000" rIns="37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695160" y="2681280"/>
          <a:ext cx="7782120" cy="2886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160" y="2681280"/>
                    <a:ext cx="778212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71600" y="1330200"/>
            <a:ext cx="8200800" cy="446040"/>
          </a:xfrm>
          <a:prstGeom prst="rect">
            <a:avLst/>
          </a:prstGeom>
          <a:solidFill>
            <a:srgbClr val="e0ebf6">
              <a:alpha val="4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Statistiche compl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2840" y="1960560"/>
            <a:ext cx="8550000" cy="41101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>
                  <a:alpha val="68235"/>
                </a:srgbClr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2000" rIns="37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71600" y="1330200"/>
            <a:ext cx="8200800" cy="446040"/>
          </a:xfrm>
          <a:prstGeom prst="rect">
            <a:avLst/>
          </a:prstGeom>
          <a:solidFill>
            <a:srgbClr val="e0ebf6">
              <a:alpha val="4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Statistiche compl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165320" y="2023920"/>
          <a:ext cx="6703920" cy="9432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827360"/>
              </a:tblGrid>
              <a:tr h="703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Appartamenti  visit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969696"/>
                      </a:solidFill>
                    </a:lnL>
                    <a:lnR w="2880">
                      <a:solidFill>
                        <a:srgbClr val="969696"/>
                      </a:solidFill>
                    </a:lnR>
                    <a:lnT w="2880">
                      <a:solidFill>
                        <a:srgbClr val="969696"/>
                      </a:solidFill>
                    </a:lnT>
                    <a:lnB w="288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Appartamenti presi in loc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969696"/>
                      </a:solidFill>
                    </a:lnL>
                    <a:lnR w="2880">
                      <a:solidFill>
                        <a:srgbClr val="969696"/>
                      </a:solidFill>
                    </a:lnR>
                    <a:lnT w="2880">
                      <a:solidFill>
                        <a:srgbClr val="969696"/>
                      </a:solidFill>
                    </a:lnT>
                    <a:lnB w="288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Appartamenti non presi in loc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969696"/>
                      </a:solidFill>
                    </a:lnL>
                    <a:lnR w="2880">
                      <a:solidFill>
                        <a:srgbClr val="969696"/>
                      </a:solidFill>
                    </a:lnR>
                    <a:lnT w="2880">
                      <a:solidFill>
                        <a:srgbClr val="969696"/>
                      </a:solidFill>
                    </a:lnT>
                    <a:lnB w="288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Media canoni appartamenti presi in loc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969696"/>
                      </a:solidFill>
                    </a:lnL>
                    <a:lnR w="2880">
                      <a:solidFill>
                        <a:srgbClr val="969696"/>
                      </a:solidFill>
                    </a:lnR>
                    <a:lnT w="2880">
                      <a:solidFill>
                        <a:srgbClr val="969696"/>
                      </a:solidFill>
                    </a:lnT>
                    <a:lnB w="288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Arial"/>
                          <a:ea typeface="Arial"/>
                        </a:rPr>
                        <a:t>Media canoni richiesti per appartamenti non presi in loc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969696"/>
                      </a:solidFill>
                    </a:lnL>
                    <a:lnR w="2880">
                      <a:solidFill>
                        <a:srgbClr val="969696"/>
                      </a:solidFill>
                    </a:lnR>
                    <a:lnT w="2880">
                      <a:solidFill>
                        <a:srgbClr val="969696"/>
                      </a:solidFill>
                    </a:lnT>
                    <a:lnB w="288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969696"/>
                      </a:solidFill>
                    </a:lnL>
                    <a:lnR w="2880">
                      <a:solidFill>
                        <a:srgbClr val="969696"/>
                      </a:solidFill>
                    </a:lnR>
                    <a:lnT w="2880">
                      <a:solidFill>
                        <a:srgbClr val="969696"/>
                      </a:solidFill>
                    </a:lnT>
                    <a:lnB w="288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969696"/>
                      </a:solidFill>
                    </a:lnL>
                    <a:lnR w="2880">
                      <a:solidFill>
                        <a:srgbClr val="969696"/>
                      </a:solidFill>
                    </a:lnR>
                    <a:lnT w="2880">
                      <a:solidFill>
                        <a:srgbClr val="969696"/>
                      </a:solidFill>
                    </a:lnT>
                    <a:lnB w="288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969696"/>
                      </a:solidFill>
                    </a:lnL>
                    <a:lnR w="2880">
                      <a:solidFill>
                        <a:srgbClr val="969696"/>
                      </a:solidFill>
                    </a:lnR>
                    <a:lnT w="2880">
                      <a:solidFill>
                        <a:srgbClr val="969696"/>
                      </a:solidFill>
                    </a:lnT>
                    <a:lnB w="288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597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969696"/>
                      </a:solidFill>
                    </a:lnL>
                    <a:lnR w="2880">
                      <a:solidFill>
                        <a:srgbClr val="969696"/>
                      </a:solidFill>
                    </a:lnR>
                    <a:lnT w="2880">
                      <a:solidFill>
                        <a:srgbClr val="969696"/>
                      </a:solidFill>
                    </a:lnT>
                    <a:lnB w="288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728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969696"/>
                      </a:solidFill>
                    </a:lnL>
                    <a:lnR w="2880">
                      <a:solidFill>
                        <a:srgbClr val="969696"/>
                      </a:solidFill>
                    </a:lnR>
                    <a:lnT w="2880">
                      <a:solidFill>
                        <a:srgbClr val="969696"/>
                      </a:solidFill>
                    </a:lnT>
                    <a:lnB w="288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33320" y="3000240"/>
            <a:ext cx="763596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2482920"/>
            <a:ext cx="8229600" cy="33559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/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txBody>
          <a:bodyPr lIns="342000" rIns="378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1.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superato l’ostacolo dell’offerta di allog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2.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efficacia delle garanzie forni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3.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sicurezza degli alloggi: tutela locatore, locatario,subconduttor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4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cultura della legalità e trasparenza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5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risposta all’emergenza abitativa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6.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aro affitti: ancora pochi i canoni concert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7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morosità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71600" y="1550880"/>
            <a:ext cx="8200800" cy="547920"/>
          </a:xfrm>
          <a:prstGeom prst="rect">
            <a:avLst/>
          </a:prstGeom>
          <a:solidFill>
            <a:srgbClr val="e0ebf6">
              <a:alpha val="40000"/>
            </a:srgbClr>
          </a:solidFill>
          <a:ln w="9360">
            <a:solidFill>
              <a:srgbClr val="808080"/>
            </a:solidFill>
            <a:miter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Un bilancio dell’Agenzia</a:t>
            </a:r>
            <a:endParaRPr b="1" lang="en-US" sz="24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487600"/>
            <a:ext cx="8229600" cy="334008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/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2000" rIns="378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ondo  garanzia, pubblico e privato, per i lavora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il servizio di emergenza abitativa va collegato al fondo af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rilancio del canone concertato:fare leva su ICI e inform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uovi canali di crescita dell’offerta pubblica di allo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timolare l’offerta privata per la locazione a canoni concer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1550880"/>
            <a:ext cx="8200800" cy="547920"/>
          </a:xfrm>
          <a:prstGeom prst="rect">
            <a:avLst/>
          </a:prstGeom>
          <a:solidFill>
            <a:srgbClr val="e2f6ef">
              <a:alpha val="40000"/>
            </a:srgbClr>
          </a:solidFill>
          <a:ln w="9360">
            <a:solidFill>
              <a:srgbClr val="808080"/>
            </a:solidFill>
            <a:miter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Le prospettive</a:t>
            </a:r>
            <a:endParaRPr b="1" lang="en-US" sz="24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47280" y="2778120"/>
            <a:ext cx="5992920" cy="139536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666699"/>
            </a:solidFill>
            <a:miter/>
          </a:ln>
        </p:spPr>
        <p:txBody>
          <a:bodyPr lIns="342000" rIns="378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f2fb5"/>
                </a:solidFill>
                <a:latin typeface="Garamond"/>
              </a:rPr>
              <a:t>Fine della presentazion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f2fb5"/>
                </a:solidFill>
                <a:latin typeface="Garamond"/>
              </a:rPr>
              <a:t>Grazie per l’attenzion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1550880"/>
            <a:ext cx="8200800" cy="547920"/>
          </a:xfrm>
          <a:prstGeom prst="rect">
            <a:avLst/>
          </a:prstGeom>
          <a:solidFill>
            <a:srgbClr val="cfe0f1">
              <a:alpha val="40000"/>
            </a:srgbClr>
          </a:solidFill>
          <a:ln w="9360">
            <a:solidFill>
              <a:srgbClr val="808080"/>
            </a:solidFill>
            <a:miter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Lo Scopo dell’Agenzia</a:t>
            </a:r>
            <a:endParaRPr b="1" lang="en-US" sz="2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482920"/>
            <a:ext cx="8229600" cy="33559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>
                  <a:alpha val="50196"/>
                </a:srgbClr>
              </a:gs>
              <a:gs pos="100000">
                <a:srgbClr val="a9b2ba"/>
              </a:gs>
            </a:gsLst>
            <a:lin ang="5400000"/>
          </a:gradFill>
          <a:ln w="6480">
            <a:solidFill>
              <a:srgbClr val="808080"/>
            </a:solidFill>
            <a:miter/>
          </a:ln>
        </p:spPr>
        <p:txBody>
          <a:bodyPr lIns="342000" rIns="378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1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reperire alloggi sul mercato priva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2.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are incontrare l’offerta di alloggi con le fascie sociali debo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3.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nserire elementi di regolazione e trasparenza nella locazione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4.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almierare il mercato dell’affit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5.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azioni di sussidiarietà verso i Comuni e le Istituzioni Pubblich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6.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nuove forme di risposta alla domanda sociale di allog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71600" y="1550880"/>
            <a:ext cx="8200800" cy="547920"/>
          </a:xfrm>
          <a:prstGeom prst="rect">
            <a:avLst/>
          </a:prstGeom>
          <a:solidFill>
            <a:srgbClr val="e0ebf6">
              <a:alpha val="4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Modalità di reperimento allo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482920"/>
            <a:ext cx="8229600" cy="33559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/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txBody>
          <a:bodyPr lIns="342000" rIns="378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contatto con il locatore per una prima informazione sul servizi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sa visione dell’alloggi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elaborazione proposta: confronto canone libero e concerta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trattativa con il proprietari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verbale di consegna firmato dalle parti, con doc. fotografica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482920"/>
            <a:ext cx="8229600" cy="33559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/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txBody>
          <a:bodyPr lIns="342000" rIns="378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1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disponibilità al subaffit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2.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buono stato di manutenzionedell’alloggi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3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sicurezza impianti:certificati di conformità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4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tipologia contrattuale: libero (4+4), concertato (3+2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5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ammobiliati e non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71600" y="1550880"/>
            <a:ext cx="8200800" cy="547920"/>
          </a:xfrm>
          <a:prstGeom prst="rect">
            <a:avLst/>
          </a:prstGeom>
          <a:solidFill>
            <a:srgbClr val="e0ebf6">
              <a:alpha val="40000"/>
            </a:srgbClr>
          </a:solidFill>
          <a:ln w="9360">
            <a:solidFill>
              <a:srgbClr val="808080"/>
            </a:solidFill>
            <a:miter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Condizioni richieste</a:t>
            </a:r>
            <a:endParaRPr b="1" lang="en-US" sz="2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482920"/>
            <a:ext cx="8229600" cy="33559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/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txBody>
          <a:bodyPr lIns="342000" rIns="378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1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assicurazione alloggi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2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affitto garantito dall’Ente Pubblic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3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riconsegna alloggio alla scadenza pattuita, disp. alla mobilità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6666"/>
                </a:solidFill>
                <a:latin typeface="Garamond"/>
              </a:rPr>
              <a:t>4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ripristino alloggio alle condizioni di partenza, salvo il dep. d’us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71600" y="1550880"/>
            <a:ext cx="8200800" cy="547920"/>
          </a:xfrm>
          <a:prstGeom prst="rect">
            <a:avLst/>
          </a:prstGeom>
          <a:solidFill>
            <a:srgbClr val="e0ebf6">
              <a:alpha val="40000"/>
            </a:srgbClr>
          </a:solidFill>
          <a:ln w="9360">
            <a:solidFill>
              <a:srgbClr val="808080"/>
            </a:solidFill>
            <a:miter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Garanzie fornite</a:t>
            </a:r>
            <a:endParaRPr b="1" lang="en-US" sz="2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482920"/>
            <a:ext cx="8229600" cy="33559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/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txBody>
          <a:bodyPr lIns="342000" rIns="378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messaggio rassicurante: “la tua casa in mani sicure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utilizzati gli strumenti della comunicazione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coinvolti gli operatori immobiliar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canali istituzionali e sociali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Garamond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test finale: passaparola-fiducia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71600" y="1550880"/>
            <a:ext cx="8200800" cy="547920"/>
          </a:xfrm>
          <a:prstGeom prst="rect">
            <a:avLst/>
          </a:prstGeom>
          <a:solidFill>
            <a:srgbClr val="e0ebf6">
              <a:alpha val="40000"/>
            </a:srgbClr>
          </a:solidFill>
          <a:ln w="9360">
            <a:solidFill>
              <a:srgbClr val="808080"/>
            </a:solidFill>
            <a:miter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Campagna promozionale</a:t>
            </a:r>
            <a:endParaRPr b="1" lang="en-US" sz="2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71840" y="1542960"/>
            <a:ext cx="4000320" cy="400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694600" y="4559400"/>
            <a:ext cx="38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Arial"/>
              </a:rPr>
              <a:t>ACER Rim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Arial"/>
              </a:rPr>
              <a:t>Agenzia per la Lo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42080" y="3205080"/>
            <a:ext cx="2605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</a:t>
            </a:r>
            <a:r>
              <a:rPr b="1" lang="en-US" sz="3400" spc="-1" strike="noStrike">
                <a:solidFill>
                  <a:srgbClr val="f3f7fb"/>
                </a:solidFill>
                <a:latin typeface="Arial"/>
              </a:rPr>
              <a:t>a tua ca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in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ani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i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12840" y="1960560"/>
            <a:ext cx="8550000" cy="41101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>
                  <a:alpha val="68235"/>
                </a:srgbClr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2000" rIns="37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71600" y="1330200"/>
            <a:ext cx="8200800" cy="446040"/>
          </a:xfrm>
          <a:prstGeom prst="rect">
            <a:avLst/>
          </a:prstGeom>
          <a:solidFill>
            <a:srgbClr val="e2f6ef">
              <a:alpha val="4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Statistiche Convenzione Emergenza Ab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09520" y="2871720"/>
          <a:ext cx="6878880" cy="2349720"/>
        </p:xfrm>
        <a:graphic>
          <a:graphicData uri="http://schemas.openxmlformats.org/drawingml/2006/table">
            <a:tbl>
              <a:tblPr/>
              <a:tblGrid>
                <a:gridCol w="2068560"/>
                <a:gridCol w="1768680"/>
                <a:gridCol w="1569960"/>
                <a:gridCol w="14716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Totale allog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77a4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Alloggi a stranie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77a4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Alloggi a itali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77a4af">
                        <a:alpha val="50000"/>
                      </a:srgbClr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EA Rimi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EB Ricc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EC Bell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ED Cori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EF Santarcange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o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2ba"/>
            </a:gs>
            <a:gs pos="50000">
              <a:srgbClr val="e0ebf6"/>
            </a:gs>
            <a:gs pos="100000">
              <a:srgbClr val="a9b2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840" y="1960560"/>
            <a:ext cx="8550000" cy="4110120"/>
          </a:xfrm>
          <a:prstGeom prst="rect">
            <a:avLst/>
          </a:prstGeom>
          <a:gradFill rotWithShape="0">
            <a:gsLst>
              <a:gs pos="0">
                <a:srgbClr val="a9b2ba"/>
              </a:gs>
              <a:gs pos="50000">
                <a:srgbClr val="e0ebf6">
                  <a:alpha val="68235"/>
                </a:srgbClr>
              </a:gs>
              <a:gs pos="100000">
                <a:srgbClr val="a9b2ba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2000" rIns="37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270480" y="276120"/>
            <a:ext cx="26100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762120" y="2021040"/>
          <a:ext cx="7318080" cy="661680"/>
        </p:xfrm>
        <a:graphic>
          <a:graphicData uri="http://schemas.openxmlformats.org/drawingml/2006/table">
            <a:tbl>
              <a:tblPr/>
              <a:tblGrid>
                <a:gridCol w="1087200"/>
                <a:gridCol w="1454400"/>
                <a:gridCol w="1149120"/>
                <a:gridCol w="1643040"/>
                <a:gridCol w="1984320"/>
              </a:tblGrid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Totale Nucl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edia persone nei nucl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Media Can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Media Canoni pagat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dai locata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Media canone pagato dai servizi soci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4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,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3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370240" y="2703600"/>
          <a:ext cx="4038480" cy="895320"/>
        </p:xfrm>
        <a:graphic>
          <a:graphicData uri="http://schemas.openxmlformats.org/drawingml/2006/table">
            <a:tbl>
              <a:tblPr/>
              <a:tblGrid>
                <a:gridCol w="2077920"/>
                <a:gridCol w="196056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Tot Canoni mensili pagati dai locata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Totale canoni mensili pagato dai servizi soci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169,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05,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76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2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471600" y="1330200"/>
            <a:ext cx="8200800" cy="446040"/>
          </a:xfrm>
          <a:prstGeom prst="rect">
            <a:avLst/>
          </a:prstGeom>
          <a:solidFill>
            <a:srgbClr val="e2f6ef">
              <a:alpha val="4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Statistiche Convenzione Emergenza Abitativa (Rimi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38440" y="3659040"/>
          <a:ext cx="5424480" cy="236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3659040"/>
                    <a:ext cx="5424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9:46:26Z</dcterms:created>
  <dc:creator>NikollBali</dc:creator>
  <dc:description/>
  <dc:language>en-US</dc:language>
  <cp:lastModifiedBy>NikollBali</cp:lastModifiedBy>
  <dcterms:modified xsi:type="dcterms:W3CDTF">2005-12-14T08:17:51Z</dcterms:modified>
  <cp:revision>78</cp:revision>
  <dc:subject/>
  <dc:title>Diapositiva 1</dc:title>
</cp:coreProperties>
</file>